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51BD-CCF6-464C-A818-DB078C75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6B1-57FC-4526-A19E-B1A2E4B9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6B9-EDC7-4ED5-AB87-C4F57F06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C904-7D0A-42F3-852B-57EA7AB6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BB25-C864-4945-8F1F-FDBE0C82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0EDF-33F7-4FAD-AB31-CD60B34D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E844-846A-4802-8E20-CED32450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6B6C-671D-4CBA-8FD6-5828A369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20DF-759C-410E-AC91-DE8DFDD6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8953-E088-4BD1-B4D8-C2F09121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320B-956D-4C17-B091-74AF9BED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E5B-EA7E-4FAE-8A68-22EA1EDA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6D22-C08E-49CD-B374-B63CC793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998E-B57B-4716-9488-080DC7AE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73D0-1F63-4977-8BA8-0262D74D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B5C1-6636-401E-ABA2-E0E1113E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A400-7CBD-461E-B8F9-55E3CF56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643-891B-4907-826F-DCEC2605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FDF4-4A1B-4E66-9F18-4BDE7BA4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EFA1-9F2C-41E3-8914-A754BD7F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628-CBA4-4456-BD06-4665AD56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B8A3-742F-4849-96D3-F358985B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306-EEE6-478E-BE47-2B451770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313-1BA0-41C6-B96C-C5B0AB3A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CE76-EBF2-42F0-BA33-DD98343F54D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29A4-B7EE-40B6-9638-16AB790623D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CILITY PL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RAT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ERG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INTEN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JOR CONCER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ADEM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TIV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HLET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ORT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ULT EDU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UNITY AND CIVIC 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VAIL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NING KE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OR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 PERI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INTENANCE AND RENOV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ANCIAL PLAN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CTION OF FUNDS TO BUI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CTION OF FUNDS TO OPER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CTION OF FUNDS TO MAINT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 OF POSSIBLE RENOV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 TO REPLACE CONSUM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 RANGE NEE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NING TE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 PERSONN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CIALISTS IN EDUCATIONAL PL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TE SELE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VIRONMENTAL FAC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FE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PLOYEE SAFE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WAY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TIL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UNICATION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X MA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USTRIAL AND COMMERCIAL DEVELOP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CIALOGICAL INFORM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CONOMIC S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MPLOYMENT OPPORTUN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DITIONS AND VAL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LIGIOUS MAKE-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ULTURAL POSSIBIL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REATIONAL OPPORTUN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STRUCTION DATA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STEM MA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ILDING MA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OOR PL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STORY OF CO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NCIPLES OF LONG RANGE PLAN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ASSUMP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EFFECTIVE USE OF SERVICEABLE FACIL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NOT FREEZE FUTURE BO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VOID “TACK-ON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CIFY MOST SUITABLE GRADE ORI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DUCATIONALLY EFFEC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CONOMICALLY SOU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FLEXIBLE AND LIST ALTERNATI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AWARE OF MAX AND MIN ENROLL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TE SI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TE TO FINANCIAL 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FETY, WELFARE, CONVEN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ATEGIC LOC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S IN BUIL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.  LONG RAN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 ENROLLMENT PROJE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 BUILDING SURV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 LONG RANGE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 BOARD 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.  ENLIST CITIZEN PARTICIP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DUCATIONAL SPECIFIC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PTION OF FACILITIES, EQUIPMENT, FURNITURE, SPACE, AND OTHER CONSIDERATIONS NECESSARY FOR EDUCATIONAL PROGRAM AND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I.  PUBLIC SUP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 ASSESS ATTI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 DEVELOP STRATEGY FOR SUP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II.  PL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 OBTAIN PLANNING FUN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 SECURING PROFESSIONAL SERVI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 SELECTING THE S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 COMPREHENSIVE SET OF ED SPE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.  PRELIMANARY DRAW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6.  PROGRESS PRI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.  FINAL WORKING DRAW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8.  PROCDURES FOLLOWING DRAW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A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CILIAZ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SPEICALIZ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LEMENT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ERGY NEE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LTH AND COMF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ING 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NTI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QUIPMENT NEE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ES DOWN THE RO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SONABLE CONT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FFECTIVE AND EFFICI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ERGY CONSIDER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AP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ULATION INCLUDING FOUND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ORS AND WINDOW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DUCE WINDOW ARE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ENINGS KEPT TIG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FFICIENT EQUIP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 Z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KE ADVANTAGE OF EXHAUST AI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OL HUMID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ING DRAWINGS PROTOC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GE 1:  COVER SHE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GE 2:  ACCURATE SITE PLAN WITH TOPOGRAPHICS AND UTIL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GE 3:  OVERALL PLOT OF BUIL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GE 4 :  DETAIL OF PLO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GE 5: FLOOR 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GE 6:  DETAIL DRAW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GE 7:  MECHANIC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DDING PROC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ERT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ABLISH BID BO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ORDERS CLARIF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QUIDATED DAM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LLOW THE BID F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STRUCTION ARE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ER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VISOR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ORDINATED PRCED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ERIODIC CONSTRUCTION MEETING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INTENDENT OF JO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ION MANA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CONTRAC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TE ADMINISTRATOR IF RENO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USINESS ADMINISTRATION FUNCTION IN SCHOO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DGETTING AND FINANCIAL PL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URCHASING AND SUPPLY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T PLANNING AND CO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-COMMUNITY REL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ONNEL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-SERVICE TRAI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RATION AND MAINTENANCE OF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ULE OF RISK MANAG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IS BETTER TO PLAN AND PREVENT ACCIDENTS THAN TO HAVE TO PAY FOR LIABILIT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POR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OD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OUNTING AND REPOR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 PROCES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NTSMANSHI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FICE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DUCATIONAL RESOURCES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TUCTURING FIN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DUCTIVITY OF LEARNING INDUS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S AND EFFECTIVE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NO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REGULATION AND DECENTRALIZ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ICE AND COMPET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LICATIONS OF RESTRUCTURING FIN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NEFIT/COST ANALY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OUNTABILITY SYSTE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OPERATIVE RELATIONSHI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-EFFECTIVENESS RATION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 ALTERNATIVE EDUCATIONAL GO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ISE POLICY MAK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SEM OF FISCAL ACCOUNT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EHENSIVE PL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SYSTEM NEE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VERSITY OF SKI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OURCES NEEDED FOR PL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GAL CONTEXT OF SCHOOL BUSINESS ADMINISTR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TEN CONSTIT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U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DGE-MADE LA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MINISTRATIVE LA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 RESPONSI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RESPONSI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L DISTRICT RESPONSI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GAL CONCEP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UTES OF THE BOA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ACTUAL AUTHO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AC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OOL MON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OL SYSTE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RT AND TORT LI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FLICT OF INTER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RIMIN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E PROC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LIANCE AND MONITORING OF COMPLI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STRUCTION MANG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CHIT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ERK OF THE 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ION MANA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PARING ED SPE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RS OF THE FACIL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CIALISTS IN THE AR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CHITECT AND ENGINE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TE CONSIDER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WAY SYST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FE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CONOMIC GROW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RTURAL ADVAN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PERATIONAL MANU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EA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UTINE MAINTEN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FETY CHE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 RESPONSI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LTH PROCED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CHANICAL EQUIP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TING SYSTEMS MANU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ERGENCY MANU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CED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F CAMPUS S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K DOWN PROCED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OR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UNIC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IST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NTRAL OFFICE SUP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INTENANCE MANU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RATING INSTRU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ERGENCY EQUIPMENT STAND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UTINE PROCED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LP????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8:08:17Z</dcterms:created>
  <dc:creator>AEURY</dc:creator>
  <dc:description/>
  <dc:language>en-US</dc:language>
  <cp:lastModifiedBy>AEURY</cp:lastModifiedBy>
  <dcterms:modified xsi:type="dcterms:W3CDTF">2007-05-23T18:00:21Z</dcterms:modified>
  <cp:revision>5</cp:revision>
  <dc:subject/>
  <dc:title>FACILITY PLANS</dc:title>
</cp:coreProperties>
</file>